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703D-F982-4BB7-9EA8-5FCAFCD07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C4A8-6D24-4179-963A-8483D8B04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F20F-13A3-4B62-8B37-F6FCBC0DB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82D9-A0E9-48EE-B15C-A25626B7C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7B58-5521-4D3C-8EEA-83D49A1C7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0586-3338-4294-9538-F7099C72E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0B95-FE3D-40D8-A3F9-8F89CD31F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2C39-8ED3-40A7-8A8C-247F705B0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41B3-0608-4BC6-81E8-F442A586A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E4F3-CF0F-40C5-8B40-6210C888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D0C5-C0E5-464D-AA43-C9501C24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764E-16DD-4978-B89D-5D555B6C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53826-9E43-45E7-8FCC-694FB914B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 ARTICLES OF CONFED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OT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1981080" y="3611520"/>
            <a:ext cx="4876560" cy="32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5T14:54:54Z</dcterms:created>
  <dc:creator>timothy.rainey</dc:creator>
  <dc:description/>
  <dc:language>en-US</dc:language>
  <cp:lastModifiedBy>timothy.rainey</cp:lastModifiedBy>
  <dcterms:modified xsi:type="dcterms:W3CDTF">2008-04-25T15:13:32Z</dcterms:modified>
  <cp:revision>2</cp:revision>
  <dc:subject/>
  <dc:title>THE  ARTICLES OF CONFEDERATION</dc:title>
</cp:coreProperties>
</file>